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12.png" ContentType="image/png"/>
  <Override PartName="/ppt/media/image22.png" ContentType="image/png"/>
  <Override PartName="/ppt/media/image27.png" ContentType="image/png"/>
  <Override PartName="/ppt/media/image4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6B7D-AEB6-413D-93AE-3EA2EED33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8710-D4F7-488C-8517-EBE0BD3E8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EC73-6926-46EF-A34E-30F6C9CB7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C358-D905-4AE8-AE8D-BDC407920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4425-83AC-4D6A-A360-AF03F7926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6071-4A80-4AB8-BD74-968F00A54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7FF8-B2AD-453C-9824-BA6A4947A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2E53-CC46-4BA8-8597-8B740B3A7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92EB-AACC-4C9A-B628-B59E3023F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604A-850F-42D7-9811-7D866A6D9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2665-5D73-4602-A6A9-568E03B04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93EE-7B5E-45E3-8FAC-76CA6AB85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987640" y="6244920"/>
            <a:ext cx="3168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et Formation and Evolution 6/9/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33D98-83C3-4FFA-A449-3922708CDE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68400" cy="119700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167680" y="0"/>
            <a:ext cx="976320" cy="1197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1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image" Target="../media/image29.png"/><Relationship Id="rId9" Type="http://schemas.openxmlformats.org/officeDocument/2006/relationships/image" Target="../media/image30.png"/><Relationship Id="rId10" Type="http://schemas.openxmlformats.org/officeDocument/2006/relationships/image" Target="../media/image31.png"/><Relationship Id="rId11" Type="http://schemas.openxmlformats.org/officeDocument/2006/relationships/image" Target="../media/image32.png"/><Relationship Id="rId12" Type="http://schemas.openxmlformats.org/officeDocument/2006/relationships/image" Target="../media/image2.png"/><Relationship Id="rId1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24000" y="4797360"/>
            <a:ext cx="4969080" cy="20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iv Of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fan Dreizler, Guillem Angl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öttingen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518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An independent planet search in the </a:t>
            </a: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Kepler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dat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3645000"/>
            <a:ext cx="2602080" cy="3213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521400" y="3645000"/>
            <a:ext cx="2622600" cy="321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34360" y="2031840"/>
            <a:ext cx="8913240" cy="17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is nothing new under the Sun” – but th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so many other sun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1000" fill="hold"/>
                                        <p:tgtEl>
                                          <p:spTgt spid="48"/>
                                        </p:tgtEl>
                                      </p:cBhvr>
                                      <p:to x="37139.9993896484" y="37139.9993896484"/>
                                    </p:animScale>
                                  </p:childTnLst>
                                </p:cTn>
                              </p:par>
                              <p:par>
                                <p:cTn id="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" dur="1000" fill="hold"/>
                                        <p:tgtEl>
                                          <p:spTgt spid="47"/>
                                        </p:tgtEl>
                                      </p:cBhvr>
                                      <p:to x="37139.9993896484" y="37139.9993896484"/>
                                    </p:animScale>
                                  </p:childTnLst>
                                </p:cTn>
                              </p:par>
                              <p:par>
                                <p:cTn id="9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7.40741E-007 L 0.09218 -0.68565 E">
                                      <p:cBhvr>
                                        <p:cTn id="10" dur="1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7.40741E-007 L -0.09097 -0.68565 E">
                                      <p:cBhvr>
                                        <p:cTn id="12" dur="1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OI 184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332000" y="1628640"/>
            <a:ext cx="6502320" cy="452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2195640" y="2637000"/>
            <a:ext cx="5040360" cy="3024000"/>
          </a:xfrm>
          <a:custGeom>
            <a:avLst/>
            <a:gdLst/>
            <a:ahLst/>
            <a:rect l="l" t="t" r="r" b="b"/>
            <a:pathLst>
              <a:path w="3175" h="1905">
                <a:moveTo>
                  <a:pt x="0" y="1905"/>
                </a:moveTo>
                <a:lnTo>
                  <a:pt x="0" y="1724"/>
                </a:lnTo>
                <a:lnTo>
                  <a:pt x="46" y="1361"/>
                </a:lnTo>
                <a:lnTo>
                  <a:pt x="91" y="1134"/>
                </a:lnTo>
                <a:lnTo>
                  <a:pt x="182" y="907"/>
                </a:lnTo>
                <a:lnTo>
                  <a:pt x="363" y="680"/>
                </a:lnTo>
                <a:lnTo>
                  <a:pt x="635" y="544"/>
                </a:lnTo>
                <a:lnTo>
                  <a:pt x="953" y="408"/>
                </a:lnTo>
                <a:lnTo>
                  <a:pt x="1497" y="272"/>
                </a:lnTo>
                <a:lnTo>
                  <a:pt x="1951" y="181"/>
                </a:lnTo>
                <a:lnTo>
                  <a:pt x="2495" y="91"/>
                </a:lnTo>
                <a:lnTo>
                  <a:pt x="3175" y="0"/>
                </a:lnTo>
                <a:lnTo>
                  <a:pt x="3175" y="1905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195640" y="2349360"/>
            <a:ext cx="5040360" cy="12970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hotome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195640" y="4221000"/>
            <a:ext cx="5040360" cy="14414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Ima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564720" y="3641760"/>
            <a:ext cx="234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Astrome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OI 184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4920" y="1484280"/>
            <a:ext cx="9066240" cy="391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7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applied 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ffer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ipe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 sensitivities and biases: candidates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es well with PDC-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cted a number of interesting objec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 on a validation scheme in progr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with several parts: to be continu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pite the success of the Kepler mission, parallel analysis b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ultip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eams i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equir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114640" y="2349360"/>
            <a:ext cx="4762440" cy="368640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119664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Thank You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582480" y="3716280"/>
            <a:ext cx="1901880" cy="23497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7667640" y="2205000"/>
            <a:ext cx="528480" cy="6476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7564320" y="2276640"/>
            <a:ext cx="679680" cy="8334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5"/>
          <a:stretch/>
        </p:blipFill>
        <p:spPr>
          <a:xfrm>
            <a:off x="7451640" y="2349360"/>
            <a:ext cx="831960" cy="10191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6"/>
          <a:stretch/>
        </p:blipFill>
        <p:spPr>
          <a:xfrm>
            <a:off x="7308720" y="2492280"/>
            <a:ext cx="986040" cy="12067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7"/>
          <a:stretch/>
        </p:blipFill>
        <p:spPr>
          <a:xfrm>
            <a:off x="7164360" y="2637000"/>
            <a:ext cx="1133640" cy="13888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8"/>
          <a:stretch/>
        </p:blipFill>
        <p:spPr>
          <a:xfrm>
            <a:off x="6954840" y="2852640"/>
            <a:ext cx="1289160" cy="15782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9"/>
          <a:stretch/>
        </p:blipFill>
        <p:spPr>
          <a:xfrm>
            <a:off x="6732720" y="2997360"/>
            <a:ext cx="1439640" cy="17636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10"/>
          <a:stretch/>
        </p:blipFill>
        <p:spPr>
          <a:xfrm>
            <a:off x="6516720" y="3213000"/>
            <a:ext cx="1590480" cy="19479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11"/>
          <a:stretch/>
        </p:blipFill>
        <p:spPr>
          <a:xfrm>
            <a:off x="6227640" y="3429000"/>
            <a:ext cx="1741680" cy="21337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12"/>
          <a:stretch/>
        </p:blipFill>
        <p:spPr>
          <a:xfrm>
            <a:off x="6012000" y="3716280"/>
            <a:ext cx="1892160" cy="2317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3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3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3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3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3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3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3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3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3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3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3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3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3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3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3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3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3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3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6432480" y="3257640"/>
            <a:ext cx="2711160" cy="3600000"/>
            <a:chOff x="6432480" y="3257640"/>
            <a:chExt cx="2711160" cy="3600000"/>
          </a:xfrm>
        </p:grpSpPr>
        <p:pic>
          <p:nvPicPr>
            <p:cNvPr id="148" name="" descr=""/>
            <p:cNvPicPr/>
            <p:nvPr/>
          </p:nvPicPr>
          <p:blipFill>
            <a:blip r:embed="rId1"/>
            <a:stretch/>
          </p:blipFill>
          <p:spPr>
            <a:xfrm>
              <a:off x="8574120" y="3257640"/>
              <a:ext cx="569520" cy="67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" descr=""/>
            <p:cNvPicPr/>
            <p:nvPr/>
          </p:nvPicPr>
          <p:blipFill>
            <a:blip r:embed="rId2"/>
            <a:stretch/>
          </p:blipFill>
          <p:spPr>
            <a:xfrm>
              <a:off x="8420400" y="3330360"/>
              <a:ext cx="718200" cy="84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" descr=""/>
            <p:cNvPicPr/>
            <p:nvPr/>
          </p:nvPicPr>
          <p:blipFill>
            <a:blip r:embed="rId3"/>
            <a:stretch/>
          </p:blipFill>
          <p:spPr>
            <a:xfrm>
              <a:off x="8191440" y="3403800"/>
              <a:ext cx="898560" cy="106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" descr=""/>
            <p:cNvPicPr/>
            <p:nvPr/>
          </p:nvPicPr>
          <p:blipFill>
            <a:blip r:embed="rId4"/>
            <a:stretch/>
          </p:blipFill>
          <p:spPr>
            <a:xfrm>
              <a:off x="7961760" y="3551400"/>
              <a:ext cx="1062000" cy="125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" descr=""/>
            <p:cNvPicPr/>
            <p:nvPr/>
          </p:nvPicPr>
          <p:blipFill>
            <a:blip r:embed="rId5"/>
            <a:stretch/>
          </p:blipFill>
          <p:spPr>
            <a:xfrm>
              <a:off x="7732440" y="3699360"/>
              <a:ext cx="1191960" cy="140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" descr=""/>
            <p:cNvPicPr/>
            <p:nvPr/>
          </p:nvPicPr>
          <p:blipFill>
            <a:blip r:embed="rId6"/>
            <a:stretch/>
          </p:blipFill>
          <p:spPr>
            <a:xfrm>
              <a:off x="7427160" y="3846960"/>
              <a:ext cx="1384200" cy="163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" name="" descr=""/>
            <p:cNvPicPr/>
            <p:nvPr/>
          </p:nvPicPr>
          <p:blipFill>
            <a:blip r:embed="rId7"/>
            <a:stretch/>
          </p:blipFill>
          <p:spPr>
            <a:xfrm>
              <a:off x="7197840" y="3994920"/>
              <a:ext cx="1547640" cy="1827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" descr=""/>
            <p:cNvPicPr/>
            <p:nvPr/>
          </p:nvPicPr>
          <p:blipFill>
            <a:blip r:embed="rId8"/>
            <a:stretch/>
          </p:blipFill>
          <p:spPr>
            <a:xfrm>
              <a:off x="6968880" y="4215600"/>
              <a:ext cx="1670760" cy="197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" descr=""/>
            <p:cNvPicPr/>
            <p:nvPr/>
          </p:nvPicPr>
          <p:blipFill>
            <a:blip r:embed="rId9"/>
            <a:stretch/>
          </p:blipFill>
          <p:spPr>
            <a:xfrm>
              <a:off x="6661800" y="4362120"/>
              <a:ext cx="1873080" cy="221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" descr=""/>
            <p:cNvPicPr/>
            <p:nvPr/>
          </p:nvPicPr>
          <p:blipFill>
            <a:blip r:embed="rId10"/>
            <a:stretch/>
          </p:blipFill>
          <p:spPr>
            <a:xfrm>
              <a:off x="6432480" y="4510080"/>
              <a:ext cx="1989720" cy="23475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independent searches should be d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r search: the SARS pipe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idation example: KOI 184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y independent searche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should be do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w of dat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pl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542520" y="2924280"/>
            <a:ext cx="8184240" cy="706680"/>
            <a:chOff x="542520" y="2924280"/>
            <a:chExt cx="8184240" cy="706680"/>
          </a:xfrm>
        </p:grpSpPr>
        <p:sp>
          <p:nvSpPr>
            <p:cNvPr id="55" name=""/>
            <p:cNvSpPr/>
            <p:nvPr/>
          </p:nvSpPr>
          <p:spPr>
            <a:xfrm>
              <a:off x="542520" y="2924280"/>
              <a:ext cx="691200" cy="703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aw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40320" y="2927160"/>
              <a:ext cx="1342080" cy="703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alibrat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711960" y="2927160"/>
              <a:ext cx="1456200" cy="703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e-tr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29320" y="2927160"/>
              <a:ext cx="1200240" cy="703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etect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igna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13040" y="2927160"/>
              <a:ext cx="1413720" cy="703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laneta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andidat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58920" y="3240000"/>
              <a:ext cx="504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203640" y="3240000"/>
              <a:ext cx="504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148360" y="3240000"/>
              <a:ext cx="504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04000" y="3240000"/>
              <a:ext cx="504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68360" y="3975120"/>
            <a:ext cx="822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45760" y="4005360"/>
            <a:ext cx="8184240" cy="2431080"/>
            <a:chOff x="545760" y="4005360"/>
            <a:chExt cx="8184240" cy="2431080"/>
          </a:xfrm>
        </p:grpSpPr>
        <p:sp>
          <p:nvSpPr>
            <p:cNvPr id="66" name=""/>
            <p:cNvSpPr/>
            <p:nvPr/>
          </p:nvSpPr>
          <p:spPr>
            <a:xfrm>
              <a:off x="545760" y="4856400"/>
              <a:ext cx="691200" cy="703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aw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843560" y="4859280"/>
              <a:ext cx="1342080" cy="703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alibrat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715200" y="4005360"/>
              <a:ext cx="1456200" cy="703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e-tr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ata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632560" y="4005360"/>
              <a:ext cx="1200240" cy="703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etect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igna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316280" y="4005360"/>
              <a:ext cx="1413720" cy="703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laneta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andidat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262160" y="5172120"/>
              <a:ext cx="504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206880" y="5172120"/>
              <a:ext cx="504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151600" y="4318200"/>
              <a:ext cx="504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807240" y="4318200"/>
              <a:ext cx="504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705840" y="4869000"/>
              <a:ext cx="1456200" cy="703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e-tr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622840" y="4869000"/>
              <a:ext cx="1200240" cy="703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etect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igna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06920" y="4869000"/>
              <a:ext cx="1413720" cy="703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laneta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andidat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141880" y="5181840"/>
              <a:ext cx="5050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797880" y="5181840"/>
              <a:ext cx="504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705840" y="5732640"/>
              <a:ext cx="1456200" cy="703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e-tr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622840" y="5732640"/>
              <a:ext cx="1200240" cy="703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etect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igna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306920" y="5732640"/>
              <a:ext cx="1413720" cy="703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laneta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andidat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141880" y="6045120"/>
              <a:ext cx="5050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797880" y="6045120"/>
              <a:ext cx="504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3179880" y="4355640"/>
              <a:ext cx="504720" cy="7923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179880" y="5148360"/>
              <a:ext cx="576360" cy="934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igns that they are ver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eeded for Kepler’s d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et Hunter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5958000" y="1268280"/>
            <a:ext cx="3186000" cy="27482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916360" y="3994200"/>
            <a:ext cx="3095640" cy="26827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0" y="3989520"/>
            <a:ext cx="3043080" cy="27050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5924520" y="3994200"/>
            <a:ext cx="3219480" cy="2747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924360" y="1268280"/>
            <a:ext cx="5400720" cy="16272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igns that they are ver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eeded for Kepler’s d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Planet Hunter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of PDC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884760" y="2344680"/>
            <a:ext cx="5259240" cy="38210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24000" y="3284640"/>
            <a:ext cx="5281560" cy="26510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324000" y="5013360"/>
            <a:ext cx="3557520" cy="29383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3059280" y="3933720"/>
            <a:ext cx="5238720" cy="34099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6"/>
          <a:stretch/>
        </p:blipFill>
        <p:spPr>
          <a:xfrm>
            <a:off x="3924360" y="5229360"/>
            <a:ext cx="5229000" cy="270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igns that they are ver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eeded for Kepler’s d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Planet Hunter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Use of PDC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3770280"/>
            <a:ext cx="822960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r early, half-manual attem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--------------------------------------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TNet search (Huang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t 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2012, in parallel with this wor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ur search: the SARS pipeline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scrip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 poi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ed smoo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RS detre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al search using B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signal tests (e.g. “half-half”, long-term fil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-planet fit: 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ultaneou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ditive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ativ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srem. Does what it names say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rn in CoRoT, applied to Kepler unchanged, significant optimization for Kepler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ur search: the SARS pipeline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RS-processed all Q0-Q6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ing statistics: Detection Power=sqrt(N)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S-searched KOIs ONLY (&lt;1% of the data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4 new signals detected in 64 systems. Notab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, by definition, in multiple syste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OI 435: only the secon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-candidate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OI 277: 6:7 period commensurability, anti-correlated TTVs, (=Kepler-3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OIs 719 and 1574: small candidates in the H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OI 184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ject 11 KOIs as EBs using photometry al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th dis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39640" y="-17640"/>
            <a:ext cx="8280360" cy="68756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2340000" y="1184400"/>
            <a:ext cx="6804000" cy="5673600"/>
          </a:xfrm>
          <a:prstGeom prst="rect">
            <a:avLst/>
          </a:prstGeom>
          <a:ln w="0">
            <a:noFill/>
          </a:ln>
        </p:spPr>
      </p:pic>
      <p:grpSp>
        <p:nvGrpSpPr>
          <p:cNvPr id="110" name=""/>
          <p:cNvGrpSpPr/>
          <p:nvPr/>
        </p:nvGrpSpPr>
        <p:grpSpPr>
          <a:xfrm>
            <a:off x="3277800" y="2781360"/>
            <a:ext cx="1003680" cy="3392280"/>
            <a:chOff x="3277800" y="2781360"/>
            <a:chExt cx="1003680" cy="3392280"/>
          </a:xfrm>
        </p:grpSpPr>
        <p:sp>
          <p:nvSpPr>
            <p:cNvPr id="111" name=""/>
            <p:cNvSpPr/>
            <p:nvPr/>
          </p:nvSpPr>
          <p:spPr>
            <a:xfrm>
              <a:off x="3444840" y="2924280"/>
              <a:ext cx="0" cy="2376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1360" y="5078520"/>
              <a:ext cx="636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421800" y="2781360"/>
              <a:ext cx="636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2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277800" y="580536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50pp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4844880" y="0"/>
            <a:ext cx="429912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064680" y="1197000"/>
            <a:ext cx="558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Blu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Kepler planet candidates.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new candid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5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2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7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7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7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7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7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7">
                                      <p:txEl>
                                        <p:pRg st="10" end="1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lidation example: KOI 184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920" y="1557360"/>
            <a:ext cx="482436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3000"/>
          </a:bodyPr>
          <a:p>
            <a:pPr marL="113040" indent="-113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talh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t 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(2012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0.52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u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KIC), s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843.0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1.35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Ear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843.0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0.84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Ear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sign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45160" indent="-9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4.25hr (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45160" indent="-9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0.61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Ear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45160" indent="-9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arby, high 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dwa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771640" y="3506760"/>
            <a:ext cx="6372360" cy="33782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3995640" y="6375240"/>
            <a:ext cx="45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951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      19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707000" y="233208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3.7037E-006 L -1.66667E-006 -0.35047 E">
                                      <p:cBhvr>
                                        <p:cTn id="222" dur="2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2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2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2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8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2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8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2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8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2T20:17:57Z</dcterms:created>
  <dc:creator>Michaela</dc:creator>
  <dc:description/>
  <dc:language>en-US</dc:language>
  <cp:lastModifiedBy>avivofir</cp:lastModifiedBy>
  <dcterms:modified xsi:type="dcterms:W3CDTF">2012-08-31T20:43:32Z</dcterms:modified>
  <cp:revision>37</cp:revision>
  <dc:subject/>
  <dc:title>An independent planet search in the Kepler data</dc:title>
</cp:coreProperties>
</file>